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0" y="0"/>
            <a:ext cx="2984400" cy="5032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902040" y="0"/>
            <a:ext cx="2984400" cy="50328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64" name="PlaceHolder 3"/>
          <p:cNvSpPr>
            <a:spLocks noGrp="1"/>
          </p:cNvSpPr>
          <p:nvPr>
            <p:ph type="sldImg"/>
          </p:nvPr>
        </p:nvSpPr>
        <p:spPr>
          <a:xfrm>
            <a:off x="439200" y="1252080"/>
            <a:ext cx="6008760" cy="3381480"/>
          </a:xfrm>
          <a:prstGeom prst="rect">
            <a:avLst/>
          </a:prstGeom>
          <a:noFill/>
          <a:ln w="12600">
            <a:solidFill>
              <a:srgbClr val="000000"/>
            </a:solidFill>
            <a:miter/>
          </a:ln>
        </p:spPr>
        <p:txBody>
          <a:bodyPr lIns="96480" rIns="9648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9040" y="4822920"/>
            <a:ext cx="5510160" cy="3944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0" y="9516960"/>
            <a:ext cx="2984400" cy="5032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902040" y="9516960"/>
            <a:ext cx="2984400" cy="50328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A78F-6A88-425D-B16B-563B5EBBC810}"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39560" y="1252440"/>
            <a:ext cx="6008760" cy="3381480"/>
          </a:xfrm>
          <a:prstGeom prst="rect">
            <a:avLst/>
          </a:prstGeom>
          <a:ln w="0">
            <a:noFill/>
          </a:ln>
        </p:spPr>
      </p:sp>
      <p:sp>
        <p:nvSpPr>
          <p:cNvPr id="560" name="PlaceHolder 2"/>
          <p:cNvSpPr>
            <a:spLocks noGrp="1"/>
          </p:cNvSpPr>
          <p:nvPr>
            <p:ph type="body"/>
          </p:nvPr>
        </p:nvSpPr>
        <p:spPr>
          <a:xfrm>
            <a:off x="689040" y="4822920"/>
            <a:ext cx="551016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61" name="Foliennummernplatzhalter 3"/>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F52D-9EAE-4C8C-A8D7-90A0B7F27732}"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22280"/>
                <a:tab algn="l" pos="844560"/>
                <a:tab algn="l" pos="1268280"/>
                <a:tab algn="l" pos="1692360"/>
                <a:tab algn="l" pos="2116080"/>
                <a:tab algn="l" pos="2538360"/>
                <a:tab algn="l" pos="2963880"/>
                <a:tab algn="l" pos="3657600"/>
                <a:tab algn="l" pos="4572000"/>
                <a:tab algn="l" pos="5486400"/>
                <a:tab algn="l" pos="6400800"/>
                <a:tab algn="l" pos="7315200"/>
                <a:tab algn="l" pos="8229600"/>
                <a:tab algn="l" pos="9144000"/>
                <a:tab algn="l" pos="10058400"/>
              </a:tabLst>
            </a:pPr>
            <a:fld id="{2B015D1E-DE18-4AE0-83C4-317B01E70E2A}" type="slidenum">
              <a:rPr b="0" lang="en-US" sz="1300" spc="-1" strike="noStrike">
                <a:solidFill>
                  <a:srgbClr val="000000"/>
                </a:solidFill>
                <a:latin typeface="Times New Roman"/>
              </a:rPr>
              <a:t>&lt;number&gt;</a:t>
            </a:fld>
            <a:endParaRPr b="0" lang="en-US" sz="1300" spc="-1" strike="noStrike">
              <a:solidFill>
                <a:srgbClr val="000000"/>
              </a:solidFill>
              <a:latin typeface="Calibri"/>
            </a:endParaRPr>
          </a:p>
        </p:txBody>
      </p:sp>
      <p:sp>
        <p:nvSpPr>
          <p:cNvPr id="563" name="PlaceHolder 1"/>
          <p:cNvSpPr>
            <a:spLocks noGrp="1"/>
          </p:cNvSpPr>
          <p:nvPr>
            <p:ph type="sldImg"/>
          </p:nvPr>
        </p:nvSpPr>
        <p:spPr>
          <a:xfrm>
            <a:off x="104760" y="762120"/>
            <a:ext cx="6676920" cy="3755880"/>
          </a:xfrm>
          <a:prstGeom prst="rect">
            <a:avLst/>
          </a:prstGeom>
          <a:ln w="0">
            <a:noFill/>
          </a:ln>
        </p:spPr>
      </p:sp>
      <p:sp>
        <p:nvSpPr>
          <p:cNvPr id="56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369D0D-BB00-46C5-9E90-E380A77AD02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8D4BA1B0-BF54-413D-8CC3-0D3F45D2C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C0F400F-8C85-4EE3-BDD2-A315CDC51D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6C55EE-B34D-4D5D-ACB7-97BADFF499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6F6323-FBD0-4FB8-B000-5D5F6632699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A24756-AA6B-4759-A150-B0E339E02B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667303-BE36-4960-AB8B-B7ADA277EF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0447EF-0434-42D2-BD2A-531997F8BD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DCE0DD-8172-4654-B3AF-E4A8AE0BCAD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9E3A28-1970-492B-A46C-4ADA4B2D7D1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4268D6F-6F9C-44D6-960A-5184C08D3A2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57FCAE8-B101-4937-815B-4FFE849486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5369F790-DEDB-4EDE-A2B7-F04F2804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F809CB4-A544-4964-894C-5C181CFDF66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2C5F41-387C-4871-96E2-29B5B711DED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5DF119-6802-498E-BA61-8045C3590A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2637E9A-7F73-4C09-A835-4BBA9F8505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3C30A9-6946-47DB-B16E-868669E611F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78837E-D87B-4FCF-9772-D4676A812B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28CBF4-58F0-474C-909E-E101D2F2EE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8016E4-3969-46D8-8558-C763A4C516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A4F0DCB-91F0-4EA0-8721-75E35FB423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28A9F50-94EF-467B-A2F2-6A027986317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4A04EAAD-AB50-4C87-8E35-73AC8AC621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F4E3A66-F10B-4C5C-91AB-6CB8264B2BF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46E7BD-46EF-48EC-A716-A3F50005C1E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DA74DEA-BA6C-47C1-9EC3-E1113B7511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5C7056-7229-444B-B09C-3B52C709CD7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723C752-EA7F-43D0-B2C8-E63243FDBF9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5CE1F79-DDD4-481F-9D1E-CCD4F237445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0A2CEC-13F5-4131-96EB-C4E273606F1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301B1A-A5F5-4960-B410-455FCB3C39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70285AE-5B9F-474E-8BF2-2F52D61E6E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FBE83CE-0D7A-4785-A0A7-9355E8FB625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9559FA-D77F-460A-8BF2-0F5E47077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77E9627-72FC-40BA-939E-BE31E5FA93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30B9CDF-D533-45CD-A712-A863FB5B9E1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785170B-F5B0-4575-B29B-2BDBCA7536A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0811F-4D08-4A5B-ABC8-555ED38CD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FBA96-62A2-4A8A-B236-FC51F1108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EDC34B-1859-4827-86E5-091A389E1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4C1C0B-B418-48D3-AD27-F50DC0835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630B0-922A-469B-9FA7-4D9950D00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34990-B53A-4615-9AAA-296FCDB20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49856FE-51CA-4E3E-A8A4-562022C40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B0F19-449D-47ED-90EF-5B497917B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7BD04-67FD-4528-BFD9-5B3EBAE0F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BA2F4-4A75-48EB-91D2-365B9D935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6C5BD3-725F-4035-91BD-D1429E0E35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418ED-657A-4C16-895D-7BEA8B08C1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6DED7F-A468-4C34-AC1F-DCBFB710A1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3BF345-289C-4323-A2BC-96E44D7AD7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39ABE4-15C3-49AC-A5DC-256D20073D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9B06E1-24F7-45F6-ACBB-B4EDA04757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E9D481-7284-481F-B1E6-ECB041362F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D570991F-D9F9-481B-A442-75BD1038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C5922E-119A-45EB-A5C9-243B3E7C84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5477A0-66CC-412C-92AD-5E68F1330B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9379EB-B8D9-4FFC-B43E-83D89D5CF4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8587C-48F8-4DC8-98E7-D40D2E7AD0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24413C-ACA7-43EE-8D2D-1646D43963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201B46-2945-447C-A56C-1DD786A5C25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35E767-8574-4D83-B0D2-B752FB856C7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6F2BF2-E7FF-4C43-8EB8-09E34D99B6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AA2729-CB8F-4A06-84A0-9326448ACC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065717-3846-4BB2-9DDC-7289937E3D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11DCDF3D-9D36-4879-BE12-510512E2C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6CB329-5FF1-4293-A061-56E3A41993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A3DA93-1D1E-49F2-BAF0-ECBFC62A47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86D3B9-9646-44D5-B128-557E476821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B75477-AA0D-4094-A61A-8D93BF4F85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86EFB6-5937-4B85-9509-3F3ADD668E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3F9DFF-382A-4854-87ED-C94891A03E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753F8E-7CEF-425D-AAC7-9F4E94C306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814C40-8FFC-4CC2-A61C-F5419494CE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803DA4-4581-4939-8DE9-B06513A93F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2E454A-A842-43F8-BC54-2B0637C6BB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87569B74-903B-4F1B-9A0E-CE8CDB632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48966A-8FB5-4856-B9CB-A5B3571709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FB3668-CAF1-47AD-9E38-C6E2583D2D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951A6D-35FE-47CD-A738-66093C15EA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B684A6-33C9-4BBE-A9D1-ABAC727E89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AF96FC-0F36-4E47-B3A1-CD197528CC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6F9442-CDD8-4CB4-BC51-6C0ACB4019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B036F7-8C19-4EAE-966D-8869B4F4FD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389087-6B48-46A7-9745-757C997925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F80F8A-2FE6-4585-9D12-74241D5E51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E7CB666-B9E9-408D-B009-7B8827CBD07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C137C58E-0F33-4DB3-8D66-86D002B5D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64DDBE-3AEE-4DF1-80E9-7F17464AE2C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AB36FEC-CB73-4685-97A7-5085DB99C8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3E86F4-0025-481D-86DF-ED801206CC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5BC137-1964-411E-9DF2-E7D6B4A956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A45135B-C7AE-4A86-A0B3-6E3DF04D60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0FFAA9-13BB-4F68-8D2C-44933FCC36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64A0F53-AD0C-4815-ACE7-D93D97470B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A09229-5784-4469-BA97-632CA63F7B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520902-B43C-4004-AD54-085B937635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B6642F-1A7C-4A6B-9B1F-DF07CA8014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4278B97-6CD4-4E54-9B1E-2CFAD6B3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5599D9-C7F9-43A5-BCCF-4A2E1152B94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983711B-3D81-4A67-B8F0-EC36FDCEEC5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8865B0-5457-414D-8E6E-6738FBF662B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337801E-4D85-43CE-801F-77C4BBF03FD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6A8FD3-9332-4DFE-9183-72F20E6DB69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83E2FE9-62B9-446A-8B97-0BCB16D7BB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A59AAAE-4758-4105-BC37-32E28BA67BB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6C2AA4-1D63-4E81-A039-0380444BF5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CAAF25-2965-4AF0-BA77-D26FC513A6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43CC86-A67B-4D4B-8D1D-1649E803BB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2CCF276C-630D-46A6-BF6F-F8172CCD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9082D3-A4BF-4CB8-BEC2-9A2C8EEC25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40DC40-E7E0-4D6D-BE93-CA655892AF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42BDC01-4961-422A-A5CC-6D4DF464B0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7D1A6CE-620C-476D-B543-2BF01275EEE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F58E18F-BFCF-4C71-8F10-16006DDC4B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1511180-829F-4564-807A-2ECCFB4A239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EDD645C-1406-4482-8BC6-C1D2AA182C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95B904-97F8-406E-86FC-1D7B6DB4F6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626799-5D37-4735-B4C3-66C4F39ED2B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A3506E-F608-4421-8422-B09450A6C7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CCD4B543-1154-4A3C-8301-3C509AF8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2CD6AA-CBF1-4E3B-AC87-1E1A5E3E18F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0A9EA0-6076-438D-BF19-67FAF3A4FF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0669A2-BE11-46BE-87CF-6DD035BB2A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BDE3BB-AA77-4C2C-AC0E-39C242FFF6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CD0175-1667-4880-986B-4F15631A109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EAED06A-0B98-4604-9101-F1FF67FBC1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9279FB-716F-4E65-88D3-16BC6D34D19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2BAFCFF-5259-4D5B-823E-EB23FD98493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3A71C56-54A5-40DC-9044-09817DDB6AF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71FD67-FC32-44FF-8A00-C09DBA22244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E6EA-6BDB-46B7-833E-6FF37CCD43E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2165-5771-4488-A3B8-E31A18ED27F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9A8E-9B90-46EC-A199-85FE4EF6A1CD}"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4D97-33AE-4445-95AD-25AFC343415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80BE-1E9B-4D8A-A02B-6A6169D2C41C}"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56CC-475F-4EE8-AA4F-94304DBC84F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F0D4-921B-4DAD-9754-AE8508428DF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FFC5-4457-40D3-81A4-EABA710C8DA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B2D-F61E-49DC-AC8A-8EE6C6744FBB}"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B928-EECE-4280-B41E-AA51A72F093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CEC9-47C7-4123-BF74-833EB14BC985}"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4148-91FF-44BA-880E-ECF57143CAB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9C03-2A83-4F13-801B-D1094502C7D6}"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2FAF-E3ED-4038-B437-5E14E7D4BA6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CBDA-8089-4072-84F5-0604610DA2E6}"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2F6E-8CA7-4A49-8F38-07625C25780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0CFB-D79A-47B6-B81C-69B18108173A}"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657B-32E7-46C6-82B5-7264A79481F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23AE-49B0-4F49-969F-639145FD4CB5}"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F89A-3C36-4845-8561-8C84FCDE776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6ADE-54F3-4609-8998-9BB58636A823}"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4783-7C0B-4416-B4E0-10E8AC1F5CE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803320"/>
            <a:ext cx="10972800" cy="2562120"/>
          </a:xfrm>
          <a:prstGeom prst="rect">
            <a:avLst/>
          </a:prstGeom>
          <a:noFill/>
          <a:ln w="0">
            <a:noFill/>
          </a:ln>
        </p:spPr>
        <p:txBody>
          <a:bodyPr anchor="b">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1" lang="de-DE" sz="4000" spc="-1" strike="noStrike">
                <a:solidFill>
                  <a:srgbClr val="c00000"/>
                </a:solidFill>
                <a:latin typeface="Arial"/>
              </a:rPr>
              <a:t>Informationen </a:t>
            </a:r>
            <a:br>
              <a:rPr sz="4000"/>
            </a:br>
            <a:r>
              <a:rPr b="1" lang="de-DE" sz="4000" spc="-1" strike="noStrike">
                <a:solidFill>
                  <a:srgbClr val="c00000"/>
                </a:solidFill>
                <a:latin typeface="Arial"/>
              </a:rPr>
              <a:t>zur </a:t>
            </a:r>
            <a:br>
              <a:rPr sz="4000"/>
            </a:br>
            <a:r>
              <a:rPr b="1" lang="de-DE" sz="4000" spc="-1" strike="noStrike">
                <a:solidFill>
                  <a:srgbClr val="c00000"/>
                </a:solidFill>
                <a:latin typeface="Arial"/>
              </a:rPr>
              <a:t>Krankenhausplanung NRW</a:t>
            </a:r>
            <a:endParaRPr b="0" lang="en-US" sz="4000" spc="-1" strike="noStrike">
              <a:solidFill>
                <a:srgbClr val="000000"/>
              </a:solidFill>
              <a:latin typeface="Calibri Light"/>
            </a:endParaRPr>
          </a:p>
        </p:txBody>
      </p:sp>
      <p:sp>
        <p:nvSpPr>
          <p:cNvPr id="469" name="PlaceHolder 2"/>
          <p:cNvSpPr>
            <a:spLocks noGrp="1"/>
          </p:cNvSpPr>
          <p:nvPr>
            <p:ph type="subTitle"/>
          </p:nvPr>
        </p:nvSpPr>
        <p:spPr>
          <a:xfrm>
            <a:off x="1603440" y="5727240"/>
            <a:ext cx="9144000" cy="647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Workshop Aktiven-Tagung KsF 05.06.2021</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A244-631F-4717-95BB-11BDE1327B0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0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Der Staat übernimmt die Aufgabe, die den DRGs zugedacht wa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r>
              <a:rPr b="0" lang="de-DE" sz="2000" spc="-1" strike="noStrike">
                <a:solidFill>
                  <a:srgbClr val="000000"/>
                </a:solidFill>
                <a:latin typeface="Calibri"/>
              </a:rPr>
              <a:t>die kleinen und mittleren Krankenhaus-Unternehmen zu verdrängen und die   Kapitalkonzentration auf ein mit der Industrie vergleichbares Niveau zu heben</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1200" spc="-1" strike="noStrike">
                <a:solidFill>
                  <a:srgbClr val="000000"/>
                </a:solidFill>
                <a:latin typeface="Calibri"/>
              </a:rPr>
              <a:t>	</a:t>
            </a: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Staat tritt nicht als planender Staat auf (im Interesse der arbeitenden Menschen oder der sog. „Allgemeinheit“), sondern als „ideeller Gesamtkapitalis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	</a:t>
            </a: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tut im Interesse der großen (privaten, öffentlichen und freigemeinnützigen) Krankenhauskonzerne, was sie selbst nicht geschafft hab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räumt ihre Konkurrenz aus dem Weg</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A242-78AD-479F-8EBE-B410EFAE907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Sind 570.000 Krankenhausfälle jährlich in NRW „ambulantisierbar“?</a:t>
            </a:r>
            <a:endParaRPr b="0" lang="en-US" sz="3600" spc="-1" strike="noStrike">
              <a:solidFill>
                <a:srgbClr val="000000"/>
              </a:solidFill>
              <a:latin typeface="Calibri Light"/>
            </a:endParaRPr>
          </a:p>
        </p:txBody>
      </p:sp>
      <p:sp>
        <p:nvSpPr>
          <p:cNvPr id="51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Kleine Krankenhäuser sollen in „intersektorale“ bettenführende (ambulant-stationäre) Gesundheitszentren umgewandelt werd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enn alle 149 nordrhein-westfälischen Krankenhäuser mit weniger als 200 Betten in „Intersektorale Gesundheitszentren “ umgewandelt würden, beträfe das 13.539 (= 11,42 %) der Krankenhausbetten in NRW.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angestrebte „Ambulantisierung“ soll 11,8 % der für 2032 prognostizierten Fälle (570.000) umfass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ie 88,2 % nicht ambulantisierbaren Fälle der Krankenhäuser mit weniger als 200 Betten müssten in größere Häuser umgeleitet werden. Deren 11,8 % ambulantisierbare Fälle müssten statt dessen in den neuen IGZ versorgt  werden.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Ob das möglich und medizinisch sinnvoll wäre, ist unbekannt. Eine Simulation gibt es nicht, einen Plan erst recht nicht.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erhofften Einsparungen wären nur dann zu erzielen, wenn die Vergütung für die ambulantisierten Fälle niedriger wäre als die bisherige Vergütung. Genau das wird von den Befürworter*innen geforder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28CF-C855-4E5F-BA9C-DEA3B8650C4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16" name=""/>
          <p:cNvSpPr txBox="1"/>
          <p:nvPr/>
        </p:nvSpPr>
        <p:spPr>
          <a:xfrm>
            <a:off x="838080" y="1552320"/>
            <a:ext cx="10515600" cy="4624200"/>
          </a:xfrm>
          <a:prstGeom prst="rect">
            <a:avLst/>
          </a:prstGeom>
          <a:noFill/>
          <a:ln w="0">
            <a:noFill/>
          </a:ln>
        </p:spPr>
        <p:txBody>
          <a:bodyPr anchor="t">
            <a:normAutofit fontScale="97000"/>
          </a:bodyPr>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600" spc="-1" strike="noStrike">
                <a:solidFill>
                  <a:srgbClr val="000000"/>
                </a:solidFill>
                <a:latin typeface="Calibri"/>
              </a:rPr>
              <a:t>Umfassende „Ambulantisierung“ setzt einen planenden und dominanten Staat in der stationären </a:t>
            </a:r>
            <a:r>
              <a:rPr b="0" lang="de-DE" sz="2600" spc="-1" strike="noStrike">
                <a:solidFill>
                  <a:srgbClr val="c00000"/>
                </a:solidFill>
                <a:latin typeface="Calibri"/>
              </a:rPr>
              <a:t>und</a:t>
            </a:r>
            <a:r>
              <a:rPr b="0" lang="de-DE" sz="2600" spc="-1" strike="noStrike">
                <a:solidFill>
                  <a:srgbClr val="000000"/>
                </a:solidFill>
                <a:latin typeface="Calibri"/>
              </a:rPr>
              <a:t> ambulanten Versorgung voraus.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Sie ist ohne Qualitätsverlust nur möglich, wenn zusätzlich zu den „IGZ“ flächendeckend bettenführende 24/7-</a:t>
            </a:r>
            <a:r>
              <a:rPr b="0" lang="de-DE" sz="2600" spc="-1" strike="noStrike">
                <a:solidFill>
                  <a:srgbClr val="c00000"/>
                </a:solidFill>
                <a:latin typeface="Calibri"/>
              </a:rPr>
              <a:t>Primärversorgungszentren</a:t>
            </a:r>
            <a:r>
              <a:rPr b="0" lang="de-DE" sz="2600" spc="-1" strike="noStrike">
                <a:solidFill>
                  <a:srgbClr val="000000"/>
                </a:solidFill>
                <a:latin typeface="Calibri"/>
              </a:rPr>
              <a:t> nach schwedischem Vorbild oder Polikliniken und Ambulatorien nach dem Vorbild der DDR eingeführt werden.</a:t>
            </a:r>
            <a:endParaRPr b="0" lang="en-US" sz="26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alibri"/>
              </a:rPr>
              <a:t>	</a:t>
            </a:r>
            <a:endParaRPr b="0" lang="en-US" sz="1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Für Köln (knapp 1,1 Mio. EW) hieße da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135 - 155 neue Primärversorgungszentren für jeweil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7000 – 8000 Patient*innen</a:t>
            </a:r>
            <a:endParaRPr b="0" lang="en-US" sz="2800" spc="-1" strike="noStrike">
              <a:solidFill>
                <a:srgbClr val="000000"/>
              </a:solidFill>
              <a:latin typeface="Calibri"/>
            </a:endParaRPr>
          </a:p>
        </p:txBody>
      </p:sp>
      <p:sp>
        <p:nvSpPr>
          <p:cNvPr id="51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DF40-7CBF-48FF-B19B-76B4F6878E0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Gibt es „kleine, schlechte“ Krankenhäuser?</a:t>
            </a:r>
            <a:br>
              <a:rPr sz="3600"/>
            </a:br>
            <a:r>
              <a:rPr b="0" lang="de-DE" sz="3600" spc="-1" strike="noStrike">
                <a:solidFill>
                  <a:srgbClr val="c00000"/>
                </a:solidFill>
                <a:latin typeface="Calibri Light"/>
              </a:rPr>
              <a:t>Müssen sie weg?</a:t>
            </a:r>
            <a:endParaRPr b="0" lang="en-US" sz="3600" spc="-1" strike="noStrike">
              <a:solidFill>
                <a:srgbClr val="000000"/>
              </a:solidFill>
              <a:latin typeface="Calibri Light"/>
            </a:endParaRPr>
          </a:p>
        </p:txBody>
      </p:sp>
      <p:sp>
        <p:nvSpPr>
          <p:cNvPr id="520" name=""/>
          <p:cNvSpPr txBox="1"/>
          <p:nvPr/>
        </p:nvSpPr>
        <p:spPr>
          <a:xfrm>
            <a:off x="838080" y="1825200"/>
            <a:ext cx="10515600" cy="4351320"/>
          </a:xfrm>
          <a:prstGeom prst="rect">
            <a:avLst/>
          </a:prstGeom>
          <a:noFill/>
          <a:ln w="0">
            <a:noFill/>
          </a:ln>
        </p:spPr>
        <p:txBody>
          <a:bodyPr anchor="t">
            <a:normAutofit fontScale="88000"/>
          </a:bodyPr>
          <a:p>
            <a:pPr marL="200880" indent="-200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Behauptungen:</a:t>
            </a:r>
            <a:endParaRPr b="0" lang="en-US" sz="2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sammenhang zwischen Menge und Ergebnis ist für komplexe Verfahren unzweifelhaft</a:t>
            </a:r>
            <a:r>
              <a:rPr b="0" lang="de-DE" sz="1400" spc="-1" strike="noStrike">
                <a:solidFill>
                  <a:srgbClr val="000000"/>
                </a:solidFill>
                <a:latin typeface="Calibri"/>
              </a:rPr>
              <a:t> </a:t>
            </a: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Prof. Mansky, TU Berlin, 06.04.2018, AWMF)</a:t>
            </a:r>
            <a:endParaRPr b="0" lang="en-US" sz="10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Wir haben die Wahl </a:t>
            </a:r>
            <a:r>
              <a:rPr b="0" lang="de-DE" sz="1600" spc="-1" strike="noStrike">
                <a:solidFill>
                  <a:srgbClr val="000000"/>
                </a:solidFill>
                <a:latin typeface="Calibri"/>
              </a:rPr>
              <a:t>(hier am Beispiel der Herzinfarktversorgung):</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Kleine, schlechte Krankenhäuser „um die Ecke“ oder größere mit höherer Qualität ein paar Minuten weiter weg!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f. Busse, TU Berlin, Potsdam, 2019)</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roße Mengen und gute Ergebnisse werden auch in kleinen und mittleren Krankenhäusern erreicht.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Volume-outcome-Beziehungen“ sagen nichts über die Krankenhausgröße aus.</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as Ergebnis „komplexer Verfahren“ (= Outcome) anhand der Mortalitätsrate zu bewerten, ist äußerst grobschlächtig und problematisch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Die Dimension Ergebnisqualität ist – zumindest derzeit – vornehmlich aus Gründen der methodischen Unsicherheit bei der Messung und Erhebung von QI nicht zur Krankenhausplanung geeignet.“ </a:t>
            </a:r>
            <a:r>
              <a:rPr b="0" lang="de-DE" sz="1100" spc="-1" strike="noStrike">
                <a:solidFill>
                  <a:srgbClr val="000000"/>
                </a:solidFill>
                <a:latin typeface="Calibri"/>
              </a:rPr>
              <a:t>(Krankenhaus-Gutachten NRW)</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00880" indent="-200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2" name="Foliennummernplatzhalter 4"/>
          <p:cNvSpPr/>
          <p:nvPr/>
        </p:nvSpPr>
        <p:spPr>
          <a:xfrm>
            <a:off x="9686880" y="5811840"/>
            <a:ext cx="23288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3A78-5C3C-4EB8-8E4F-B6F363399EA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n</a:t>
            </a:r>
            <a:endParaRPr b="0" lang="en-US" sz="3600" spc="-1" strike="noStrike">
              <a:solidFill>
                <a:srgbClr val="000000"/>
              </a:solidFill>
              <a:latin typeface="Calibri Light"/>
            </a:endParaRPr>
          </a:p>
        </p:txBody>
      </p:sp>
      <p:sp>
        <p:nvSpPr>
          <p:cNvPr id="524" name=""/>
          <p:cNvSpPr txBox="1"/>
          <p:nvPr/>
        </p:nvSpPr>
        <p:spPr>
          <a:xfrm>
            <a:off x="838080" y="1491840"/>
            <a:ext cx="10515600" cy="4684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Erstens: Das kleine, schlechte  Krankenhaus „um die Ecke“ gibt es vielleicht als Einzelfall,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aber nicht als Krankenhaustypus.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r>
              <a:rPr b="1" lang="de-DE" sz="2000" spc="-1" strike="noStrike">
                <a:solidFill>
                  <a:srgbClr val="c00000"/>
                </a:solidFill>
                <a:latin typeface="Calibri"/>
              </a:rPr>
              <a:t>Als Krankenhaustypus gibt es kleine und mittlere Krankenhäuser, die nebeneinander Leistungen der Grund-, Regel- und Maximalversorgung erbringen, um im Konkurrenzkampf mit den Großen mithalten zu könn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Zweitens: </a:t>
            </a:r>
            <a:r>
              <a:rPr b="0" lang="de-DE" sz="1800" spc="-1" strike="noStrike">
                <a:solidFill>
                  <a:srgbClr val="000000"/>
                </a:solidFill>
                <a:latin typeface="Calibri"/>
              </a:rPr>
              <a:t>Wer bedarfsgerecht planen will, muss dieses </a:t>
            </a:r>
            <a:r>
              <a:rPr b="1" lang="de-DE" sz="1800" spc="-1" strike="noStrike">
                <a:solidFill>
                  <a:srgbClr val="000000"/>
                </a:solidFill>
                <a:latin typeface="Calibri"/>
              </a:rPr>
              <a:t>Leistungsmosaik</a:t>
            </a:r>
            <a:r>
              <a:rPr b="0" lang="de-DE" sz="1800" spc="-1" strike="noStrike">
                <a:solidFill>
                  <a:srgbClr val="000000"/>
                </a:solidFill>
                <a:latin typeface="Calibri"/>
              </a:rPr>
              <a:t> quantitativ und qualitativ erfass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Eine solche Bestandsaufnahme gibt es nicht. Sie ist nur möglich, wenn das Wissen „vor Ort“ genutzt wird. Folglich kann nicht zentral über die zukünftige Krankenhausstruktur entschieden werden. Bestandsaufnahme, Bewertung und Planung müssen demokratisch von unten nach oben verlauf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Planung von oben  ist die demokratische Planung von unt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Drittens:</a:t>
            </a:r>
            <a:r>
              <a:rPr b="0" lang="de-DE" sz="1800" spc="-1" strike="noStrike">
                <a:solidFill>
                  <a:srgbClr val="000000"/>
                </a:solidFill>
                <a:latin typeface="Calibri"/>
              </a:rPr>
              <a:t> Die Krankenhausplanung  sollte darauf gerichtet sein, die bestehenden Strukturen bedarfsgerecht und kooperativ weiter zu entwickeln, z.B. durch eine viel stärkere Verbreitung von Herzinfarkt-, Schlaganfall- und Traumanetzwerk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Zentralisierung ist die Kooperatio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DE5F-7693-464A-AC4F-C318EF8F11D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46000" y="3398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Ist die Zentralisierung eine Voraussetzung </a:t>
            </a:r>
            <a:br>
              <a:rPr sz="3600"/>
            </a:br>
            <a:r>
              <a:rPr b="0" lang="de-DE" sz="3600" spc="-1" strike="noStrike">
                <a:solidFill>
                  <a:srgbClr val="c00000"/>
                </a:solidFill>
                <a:latin typeface="Calibri Light"/>
              </a:rPr>
              <a:t>für die Fallzahlsenkung?</a:t>
            </a:r>
            <a:endParaRPr b="0" lang="en-US" sz="3600" spc="-1" strike="noStrike">
              <a:solidFill>
                <a:srgbClr val="000000"/>
              </a:solidFill>
              <a:latin typeface="Calibri Light"/>
            </a:endParaRPr>
          </a:p>
        </p:txBody>
      </p:sp>
      <p:sp>
        <p:nvSpPr>
          <p:cNvPr id="528" name=""/>
          <p:cNvSpPr txBox="1"/>
          <p:nvPr/>
        </p:nvSpPr>
        <p:spPr>
          <a:xfrm>
            <a:off x="743040" y="1760400"/>
            <a:ext cx="10515600" cy="45021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ie neue Krankenhaus-Gesetzgebung in NRW orientiert sich an der </a:t>
            </a:r>
            <a:r>
              <a:rPr b="1" lang="de-DE" sz="1600" spc="-1" strike="noStrike">
                <a:solidFill>
                  <a:srgbClr val="000000"/>
                </a:solidFill>
                <a:latin typeface="Calibri"/>
              </a:rPr>
              <a:t>„Spitalregion Zürich“</a:t>
            </a:r>
            <a:r>
              <a:rPr b="0" lang="de-DE" sz="1600" spc="-1" strike="noStrike">
                <a:solidFill>
                  <a:srgbClr val="000000"/>
                </a:solidFill>
                <a:latin typeface="Calibri"/>
              </a:rPr>
              <a: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Nordrhein-westfälischen Krankenhausstandorte mit somatischen Soll-Betten (2017):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12.300 Patient*innen in 281 Betten</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a:t>
            </a:r>
            <a:r>
              <a:rPr b="1" lang="de-DE" sz="1600" spc="-1" strike="noStrike">
                <a:solidFill>
                  <a:srgbClr val="000000"/>
                </a:solidFill>
                <a:latin typeface="Calibri"/>
              </a:rPr>
              <a:t>Spitäler mit Zürcher Leistungsauftrag“  (2019):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9905,3 Patient*innen in 176,4 Bett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Züricher Krankenhäuser sind also noch viel kleiner als die Krankenhäuser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Fallzahl pro 1000 EW liegt aber in der Region Zürich bei 148,3, weit unter den 249 Fällen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Erreicht wurden die niedrigeren stationären Fallzahlen in der Schweiz nicht durch Zentralisierung, sondern durch administrative Vorgaben, z.B.  durch die seit dem 01.01.2019 geltende Regelung „ambulant vor stationär“ gemäß der Schweizer „Krankenpflege-Leistungsverordnung“. </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0" name="Foliennummernplatzhalter 4"/>
          <p:cNvSpPr/>
          <p:nvPr/>
        </p:nvSpPr>
        <p:spPr>
          <a:xfrm flipV="1">
            <a:off x="9272520" y="6176880"/>
            <a:ext cx="2743200" cy="60480"/>
          </a:xfrm>
          <a:prstGeom prst="rect">
            <a:avLst/>
          </a:prstGeom>
          <a:noFill/>
          <a:ln w="0">
            <a:noFill/>
          </a:ln>
        </p:spPr>
        <p:style>
          <a:lnRef idx="0"/>
          <a:fillRef idx="0"/>
          <a:effectRef idx="0"/>
          <a:fontRef idx="minor"/>
        </p:style>
        <p:txBody>
          <a:bodyPr lIns="90000" rIns="90000" tIns="13680" bIns="13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647B-E1E3-4AC4-91C3-8236033F313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4000" spc="-1" strike="noStrike">
                <a:solidFill>
                  <a:srgbClr val="000000"/>
                </a:solidFill>
                <a:latin typeface="Calibri"/>
              </a:rPr>
              <a:t>Fallzahlsenkung und Zentralisierung stehen in keinem kausalen Zusammenhang.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	</a:t>
            </a:r>
            <a:r>
              <a:rPr b="0" lang="de-DE" sz="4000" spc="-1" strike="noStrike">
                <a:solidFill>
                  <a:srgbClr val="000000"/>
                </a:solidFill>
                <a:latin typeface="Calibri"/>
              </a:rPr>
              <a:t>Der Zweck der Zentralisierung ist die Steigerung der ökonomischen Effizienz.</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3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28F2-606E-4446-A099-B4B67FFB86A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Was kostet die Zentralisierung?</a:t>
            </a:r>
            <a:endParaRPr b="0" lang="en-US" sz="3600" spc="-1" strike="noStrike">
              <a:solidFill>
                <a:srgbClr val="000000"/>
              </a:solidFill>
              <a:latin typeface="Calibri Light"/>
            </a:endParaRPr>
          </a:p>
        </p:txBody>
      </p:sp>
      <p:sp>
        <p:nvSpPr>
          <p:cNvPr id="53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r>
              <a:rPr b="0" lang="de-DE" sz="2800" spc="-1" strike="noStrike">
                <a:solidFill>
                  <a:srgbClr val="000000"/>
                </a:solidFill>
                <a:latin typeface="Calibri"/>
              </a:rPr>
              <a:t>100 Milliarden Euro – die Kosten der Zentralisierung</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am 19.10.2020 im Interview mit der „Ärzte-Zeitung“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1800" spc="-1" strike="noStrike">
                <a:solidFill>
                  <a:srgbClr val="000000"/>
                </a:solidFill>
                <a:latin typeface="Calibri"/>
              </a:rPr>
              <a:t>Sie hatten schon vor Jahren den Begriff der Abwrackprämie für Kliniken ins Spiel gebracht. Wie könnte die ab 2022 ausseh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i="1" lang="de-DE" sz="1800" spc="-1" strike="noStrike">
                <a:solidFill>
                  <a:srgbClr val="000000"/>
                </a:solidFill>
                <a:latin typeface="Calibri"/>
              </a:rPr>
              <a:t>Tatsächlich gibt es diese Abwrackprämie ja längst über den Krankenhausstrukturfonds, der das Ziel hat, Kliniken stärker zu zentralisieren und auch zu schließen. … Für diese Strukturveränderung sollten noch mehr Investitionsmittel bereitgestellt werden. Ein Beispiel, damit einmal die Dimensionen klar werd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Calibri"/>
              </a:rPr>
              <a:t>	</a:t>
            </a:r>
            <a:r>
              <a:rPr b="1" i="1" lang="de-DE" sz="18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6FF6-9E9E-4B31-AAB1-A840162D2AA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0"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 Grund der hohen Kosten einer Zentralisierung der „Krankenhauslandschaft“ sind die Zentralisierung und die dringend notwendige Verbesserung der Arbeitsbedingungen unvereinbar. </a:t>
            </a:r>
            <a:endParaRPr b="0" lang="en-US" sz="3600" spc="-1" strike="noStrike">
              <a:solidFill>
                <a:srgbClr val="000000"/>
              </a:solidFill>
              <a:latin typeface="Calibri"/>
            </a:endParaRPr>
          </a:p>
        </p:txBody>
      </p:sp>
      <p:sp>
        <p:nvSpPr>
          <p:cNvPr id="54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1278-8EAB-49A3-9379-6C5C9A33963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rage: Wer bezahlt die Zentralisierung?</a:t>
            </a:r>
            <a:endParaRPr b="0" lang="en-US" sz="4400" spc="-1" strike="noStrike">
              <a:solidFill>
                <a:srgbClr val="000000"/>
              </a:solidFill>
              <a:latin typeface="Calibri Light"/>
            </a:endParaRPr>
          </a:p>
        </p:txBody>
      </p:sp>
      <p:sp>
        <p:nvSpPr>
          <p:cNvPr id="54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i="1" lang="de-DE" sz="2800" spc="-1" strike="noStrike">
                <a:solidFill>
                  <a:srgbClr val="000000"/>
                </a:solidFill>
                <a:latin typeface="Calibri"/>
              </a:rPr>
              <a:t>Rückgang von öffentlichem Kapital. </a:t>
            </a:r>
            <a:r>
              <a:rPr b="0" i="1" lang="de-DE" sz="2800" spc="-1" strike="noStrike">
                <a:solidFill>
                  <a:srgbClr val="000000"/>
                </a:solidFill>
                <a:latin typeface="Calibri"/>
              </a:rPr>
              <a:t>Um Angebotsstrukturen anpassen zu können, wird aufgrund sinkender öffentlicher Investitionsmittel vermehrt privates Kapital zum Einsatz kommen müssen. Dies wird jedoch nur geschehen, wenn ausreichend unternehmerische Freiheiten vorhanden sind. Dazu ist ein Abbau von regulatorischen Restriktionen im Gesundheitswesen wichtig.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	</a:t>
            </a:r>
            <a:r>
              <a:rPr b="0" lang="de-DE" sz="1400" spc="-1" strike="noStrike">
                <a:solidFill>
                  <a:srgbClr val="000000"/>
                </a:solidFill>
                <a:latin typeface="Calibri"/>
              </a:rPr>
              <a:t>(Augurzky/Beivers/Pilny: Krankenhäuser in privater Trägerschaft 2018, S. 97 f.)</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4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509E-2601-47DD-A867-022DA72799A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a:t>
            </a:r>
            <a:r>
              <a:rPr b="0" lang="de-DE" sz="4000" spc="-1" strike="noStrike">
                <a:solidFill>
                  <a:srgbClr val="c00000"/>
                </a:solidFill>
                <a:latin typeface="Calibri Light"/>
              </a:rPr>
              <a:t>Abkehr vom Bett als Planungsgröße“ </a:t>
            </a:r>
            <a:endParaRPr b="0" lang="en-US" sz="4000" spc="-1" strike="noStrike">
              <a:solidFill>
                <a:srgbClr val="000000"/>
              </a:solidFill>
              <a:latin typeface="Calibri Light"/>
            </a:endParaRPr>
          </a:p>
        </p:txBody>
      </p:sp>
      <p:sp>
        <p:nvSpPr>
          <p:cNvPr id="473" name=""/>
          <p:cNvSpPr txBox="1"/>
          <p:nvPr/>
        </p:nvSpPr>
        <p:spPr>
          <a:xfrm>
            <a:off x="838080" y="1595520"/>
            <a:ext cx="10515600" cy="45813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a:t>
            </a:r>
            <a:r>
              <a:rPr b="0" lang="de-DE" sz="2400" spc="-1" strike="noStrike">
                <a:solidFill>
                  <a:srgbClr val="c00000"/>
                </a:solidFill>
                <a:latin typeface="Calibri"/>
              </a:rPr>
              <a:t>Einführung einer „leistungs-, bedarfs- und qualitätsorientierten Krankenhausplanung“</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u="sng">
                <a:solidFill>
                  <a:srgbClr val="c00000"/>
                </a:solidFill>
                <a:uFillTx/>
                <a:latin typeface="Calibri"/>
              </a:rPr>
              <a:t>Leistung:</a:t>
            </a:r>
            <a:r>
              <a:rPr b="0" lang="de-DE" sz="2400" spc="-1" strike="noStrike">
                <a:solidFill>
                  <a:srgbClr val="c00000"/>
                </a:solidFill>
                <a:latin typeface="Calibri"/>
              </a:rPr>
              <a:t> </a:t>
            </a:r>
            <a:r>
              <a:rPr b="0" lang="de-DE" sz="2400" spc="-1" strike="noStrike">
                <a:solidFill>
                  <a:srgbClr val="000000"/>
                </a:solidFill>
                <a:latin typeface="Calibri"/>
              </a:rPr>
              <a:t>25 Leistungsbereiche (ärztliche WBO) und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c00000"/>
                </a:solidFill>
                <a:latin typeface="Calibri"/>
              </a:rPr>
              <a:t>Neu: 70 Leistungsgrupp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Bedarf:</a:t>
            </a:r>
            <a:r>
              <a:rPr b="0" lang="de-DE" sz="2400" spc="-1" strike="noStrike">
                <a:solidFill>
                  <a:srgbClr val="c00000"/>
                </a:solidFill>
                <a:latin typeface="Calibri"/>
              </a:rPr>
              <a:t> </a:t>
            </a:r>
            <a:r>
              <a:rPr b="0" lang="de-DE" sz="2400" spc="-1" strike="noStrike">
                <a:solidFill>
                  <a:srgbClr val="000000"/>
                </a:solidFill>
                <a:latin typeface="Calibri"/>
              </a:rPr>
              <a:t>Demografie, Verweildauerverkürzung, Erhöhung der „Bettennutzung“ , Abbau von 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Neu:</a:t>
            </a:r>
            <a:r>
              <a:rPr b="0" lang="de-DE" sz="2400" spc="-1" strike="noStrike">
                <a:solidFill>
                  <a:srgbClr val="000000"/>
                </a:solidFill>
                <a:latin typeface="Calibri"/>
              </a:rPr>
              <a:t> </a:t>
            </a:r>
            <a:r>
              <a:rPr b="0" lang="de-DE" sz="2400" spc="-1" strike="noStrike">
                <a:solidFill>
                  <a:srgbClr val="c00000"/>
                </a:solidFill>
                <a:latin typeface="Calibri"/>
              </a:rPr>
              <a:t>„Ambulantisierungspotential“</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Qualität:</a:t>
            </a:r>
            <a:r>
              <a:rPr b="0" lang="de-DE" sz="2400" spc="-1" strike="noStrike">
                <a:solidFill>
                  <a:srgbClr val="c00000"/>
                </a:solidFill>
                <a:latin typeface="Calibri"/>
              </a:rPr>
              <a:t> </a:t>
            </a:r>
            <a:r>
              <a:rPr b="0" lang="de-DE" sz="2400" spc="-1" strike="noStrike">
                <a:solidFill>
                  <a:srgbClr val="000000"/>
                </a:solidFill>
                <a:latin typeface="Calibri"/>
              </a:rPr>
              <a:t>Vorgabe von „Strukturmerkmalen“ (technisch und personell) zur Rechtfertigung der Planungsentscheidung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Hoppla: „Die Dimension Ergebnisqualität ist – zumindest derzeit –nicht zur Krankenhausplanung geeignet.“ </a:t>
            </a:r>
            <a:endParaRPr b="0" lang="en-US" sz="24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7E16-261E-478B-A4DB-187F8BCB9E2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Da die Zentralisierung weitgehend mit privatem Kapital finanziert werden müsste, würde sie einen weiteren Privatisierungsschub auslösen.</a:t>
            </a:r>
            <a:endParaRPr b="0" lang="en-US" sz="4400" spc="-1" strike="noStrike">
              <a:solidFill>
                <a:srgbClr val="000000"/>
              </a:solidFill>
              <a:latin typeface="Calibri"/>
            </a:endParaRPr>
          </a:p>
        </p:txBody>
      </p:sp>
      <p:sp>
        <p:nvSpPr>
          <p:cNvPr id="54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4D58-AA6C-47A7-B4D5-D6AD20C4C76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Zusammenfassung</a:t>
            </a:r>
            <a:endParaRPr b="0" lang="en-US" sz="4000" spc="-1" strike="noStrike">
              <a:solidFill>
                <a:srgbClr val="000000"/>
              </a:solidFill>
              <a:latin typeface="Calibri Light"/>
            </a:endParaRPr>
          </a:p>
        </p:txBody>
      </p:sp>
      <p:sp>
        <p:nvSpPr>
          <p:cNvPr id="552" name=""/>
          <p:cNvSpPr txBox="1"/>
          <p:nvPr/>
        </p:nvSpPr>
        <p:spPr>
          <a:xfrm>
            <a:off x="838080" y="1363680"/>
            <a:ext cx="10515600" cy="49068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In NRW ist nicht der „planende Staat“  zurückgekehrt,  sondern der „idelle Gesamtkapitalist“, der den Konzentrationsprozeß des Krankenhaus-Kapitals vorantreibt.</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2.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Fallzahlsenkung im Krankenhausbereich ist nur erstrebenswert, wenn die Patient*innen im ambulanten Sektor  gleichwertig versorgt werden können. Dazu ist ein flächendeckendes Netz kommunaler  tarifgebundener Primärversorgungszentren erforderlich.</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3.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as Krankenhauswesen besteht aus einem mosaikartigen  Geflecht  von Grund-, Regel- und Maximalversorgung. Die Weiterentwicklung dieses Systems erfordert eine demokratische Planung von unten nach oben. Die Alternative zur Zentralisierung ist die Kooperation.</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4.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er Hauptzweck der Zentralisierung ist  die Steigerung der ökonomischen Effizienz.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5.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Zentralisierung und Verbesserung der Arbeitsbedingungen sind unvereinbar.</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 These:</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ine wesentliche Folge der Zentralisierung (ihr verborgener Zweck) wäre die weitere Privatisierung des Krankenhauswesens.</a:t>
            </a:r>
            <a:endParaRPr b="0" lang="en-US" sz="1400" spc="-1" strike="noStrike">
              <a:solidFill>
                <a:srgbClr val="000000"/>
              </a:solidFill>
              <a:latin typeface="Calibri"/>
            </a:endParaRPr>
          </a:p>
        </p:txBody>
      </p:sp>
      <p:sp>
        <p:nvSpPr>
          <p:cNvPr id="55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C95B-4DAD-4B78-AC0D-C17015D1C66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55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557"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7418-96BB-42BD-BBA9-571928252A2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8"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Die Ziele der neuen Krankenhausplanung</a:t>
            </a:r>
            <a:endParaRPr b="0" lang="en-US" sz="4400" spc="-1" strike="noStrike">
              <a:solidFill>
                <a:srgbClr val="000000"/>
              </a:solidFill>
              <a:latin typeface="Calibri Light"/>
            </a:endParaRPr>
          </a:p>
        </p:txBody>
      </p:sp>
      <p:sp>
        <p:nvSpPr>
          <p:cNvPr id="477"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enkung der Fallzahlen</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Bettenabbau</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Zentralisierung</a:t>
            </a:r>
            <a:endParaRPr b="0" lang="en-US" sz="4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F819-185A-4D07-93F3-D9AD24C8140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Calibri Light"/>
              </a:rPr>
              <a:t>Ziel:</a:t>
            </a:r>
            <a:r>
              <a:rPr b="0" lang="de-DE" sz="3600" spc="-1" strike="noStrike">
                <a:solidFill>
                  <a:srgbClr val="c00000"/>
                </a:solidFill>
                <a:latin typeface="Calibri Light"/>
              </a:rPr>
              <a:t> Fallzahlsenkung</a:t>
            </a:r>
            <a:endParaRPr b="0" lang="en-US" sz="3600" spc="-1" strike="noStrike">
              <a:solidFill>
                <a:srgbClr val="000000"/>
              </a:solidFill>
              <a:latin typeface="Calibri Light"/>
            </a:endParaRPr>
          </a:p>
        </p:txBody>
      </p:sp>
      <p:sp>
        <p:nvSpPr>
          <p:cNvPr id="481" name=""/>
          <p:cNvSpPr txBox="1"/>
          <p:nvPr/>
        </p:nvSpPr>
        <p:spPr>
          <a:xfrm>
            <a:off x="846000" y="1526760"/>
            <a:ext cx="10515600" cy="4589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 Fallzahlbegrenzung pro Leistungsgruppe auf Ebene des Landes, des Versorgungsgebiets und des einzelnen Krankenhauses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plus</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s Casemix – und Kostenmanagement pro Leistungsgrupp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3200" spc="-1" strike="noStrike">
                <a:solidFill>
                  <a:srgbClr val="c00000"/>
                </a:solidFill>
                <a:latin typeface="Calibri"/>
              </a:rPr>
              <a:t>Die Leistungs- (Fallzahl-)steigerung wird unterbunden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Konkurrenzkampf der Krankenhäuser wird verschärft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a:rPr>
              <a:t>Ein Wettlauf um (Personal-)Kostenabbau und Investitionen wird ausgelöst!</a:t>
            </a:r>
            <a:endParaRPr b="0" lang="en-US" sz="3600" spc="-1" strike="noStrike">
              <a:solidFill>
                <a:srgbClr val="000000"/>
              </a:solidFill>
              <a:latin typeface="Calibri"/>
            </a:endParaRPr>
          </a:p>
        </p:txBody>
      </p:sp>
      <p:sp>
        <p:nvSpPr>
          <p:cNvPr id="48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D68A-3868-432F-A3BF-8597B758EE0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Fallzahlbegrenzung und Schwankungsbreite</a:t>
            </a:r>
            <a:endParaRPr b="0" lang="en-US" sz="40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1" lang="de-DE" sz="2000" spc="-1" strike="noStrike">
                <a:solidFill>
                  <a:srgbClr val="000000"/>
                </a:solidFill>
                <a:latin typeface="Calibri"/>
              </a:rPr>
              <a:t>§ 16 Abs. 1 Ziff. 7 KHGG soll die Fallzahlbegrenzung sicherstelle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er Bescheid über die Aufnahme (in den Krankenhausplan) enthält mindestens …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je Leistungsgruppe durch die </a:t>
            </a:r>
            <a:r>
              <a:rPr b="1" i="1" lang="de-DE" sz="2000" spc="-1" strike="noStrike">
                <a:solidFill>
                  <a:srgbClr val="c00000"/>
                </a:solidFill>
                <a:latin typeface="Calibri"/>
              </a:rPr>
              <a:t>durchschnittliche jährliche Fallzahl</a:t>
            </a:r>
            <a:r>
              <a:rPr b="0" i="1" lang="de-DE" sz="2000" spc="-1" strike="noStrike">
                <a:solidFill>
                  <a:srgbClr val="000000"/>
                </a:solidFill>
                <a:latin typeface="Calibri"/>
              </a:rPr>
              <a:t> oder durch andere qualitative oder quantitative Parameter angegebene Versorgungskapazität im Ist und Soll.  In den Rahmenvorgaben … wird je Leistungsgruppe eine </a:t>
            </a:r>
            <a:r>
              <a:rPr b="1" i="1" lang="de-DE" sz="2000" spc="-1" strike="noStrike">
                <a:solidFill>
                  <a:srgbClr val="c00000"/>
                </a:solidFill>
                <a:latin typeface="Calibri"/>
              </a:rPr>
              <a:t>Schwankungsbreite</a:t>
            </a:r>
            <a:r>
              <a:rPr b="0" i="1" lang="de-DE" sz="2000" spc="-1" strike="noStrike">
                <a:solidFill>
                  <a:srgbClr val="000000"/>
                </a:solidFill>
                <a:latin typeface="Calibri"/>
              </a:rPr>
              <a:t> vorgesehen, in</a:t>
            </a:r>
            <a:r>
              <a:rPr b="0" lang="de-DE" sz="2000" spc="-1" strike="noStrike">
                <a:solidFill>
                  <a:srgbClr val="000000"/>
                </a:solidFill>
                <a:latin typeface="Calibri"/>
              </a:rPr>
              <a:t> </a:t>
            </a:r>
            <a:r>
              <a:rPr b="0" i="1" lang="de-DE" sz="2000" spc="-1" strike="noStrike">
                <a:solidFill>
                  <a:srgbClr val="000000"/>
                </a:solidFill>
                <a:latin typeface="Calibri"/>
              </a:rPr>
              <a:t>deren Rahmen die Krankenhäuser von der festgestellten Versorgungskapazität abweichen dürf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a:t>
            </a:r>
            <a:r>
              <a:rPr b="1" lang="de-DE" sz="2000" spc="-1" strike="noStrike">
                <a:solidFill>
                  <a:srgbClr val="000000"/>
                </a:solidFill>
                <a:latin typeface="Calibri"/>
              </a:rPr>
              <a:t>Verstöße werden sanktioniert. § 16 Abs. 2 lautet:</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Wenn Krankenhausträger ohne Zustimmung der zuständigen Behörde von den Feststellungen nach Absatz 1 abweichen oder planwidrige Leistungen anbieten, kann das </a:t>
            </a:r>
            <a:r>
              <a:rPr b="1" i="1" lang="de-DE" sz="2000" spc="-1" strike="noStrike">
                <a:solidFill>
                  <a:srgbClr val="c00000"/>
                </a:solidFill>
                <a:latin typeface="Calibri"/>
              </a:rPr>
              <a:t>Krankenhaus ganz oder teilweise aus dem Krankenhausplan herausgenommen</a:t>
            </a:r>
            <a:r>
              <a:rPr b="0" i="1" lang="de-DE" sz="2000" spc="-1" strike="noStrike">
                <a:solidFill>
                  <a:srgbClr val="000000"/>
                </a:solidFill>
                <a:latin typeface="Calibri"/>
              </a:rPr>
              <a:t> werden. </a:t>
            </a:r>
            <a:endParaRPr b="0" lang="en-US" sz="20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1E8F-3E34-4ABF-B842-6A28F236886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1" lang="en-US" sz="3600" spc="-1" strike="noStrike">
                <a:solidFill>
                  <a:srgbClr val="c00000"/>
                </a:solidFill>
                <a:latin typeface="Calibri Light"/>
              </a:rPr>
              <a:t>Ziel: Bettenabbau </a:t>
            </a:r>
            <a:br>
              <a:rPr sz="3600"/>
            </a:br>
            <a:r>
              <a:rPr b="1" lang="en-US" sz="3600" spc="-1" strike="noStrike">
                <a:solidFill>
                  <a:srgbClr val="c00000"/>
                </a:solidFill>
                <a:latin typeface="Calibri Light"/>
              </a:rPr>
              <a:t>durch höhere Auslastung plus “Ambulantisierung”</a:t>
            </a:r>
            <a:br>
              <a:rPr sz="3600"/>
            </a:br>
            <a:endParaRPr b="0" lang="en-US" sz="3600" spc="-1" strike="noStrike">
              <a:solidFill>
                <a:srgbClr val="000000"/>
              </a:solidFill>
              <a:latin typeface="Calibri Light"/>
            </a:endParaRPr>
          </a:p>
        </p:txBody>
      </p:sp>
      <p:sp>
        <p:nvSpPr>
          <p:cNvPr id="48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9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26FF-214E-41A4-A320-FA78FCA9E04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91" name="Picture 7" descr=""/>
          <p:cNvPicPr/>
          <p:nvPr/>
        </p:nvPicPr>
        <p:blipFill>
          <a:blip r:embed="rId1"/>
          <a:stretch/>
        </p:blipFill>
        <p:spPr>
          <a:xfrm>
            <a:off x="1411200" y="1676520"/>
            <a:ext cx="8955000" cy="1385640"/>
          </a:xfrm>
          <a:prstGeom prst="rect">
            <a:avLst/>
          </a:prstGeom>
          <a:ln w="0">
            <a:noFill/>
          </a:ln>
        </p:spPr>
      </p:pic>
      <p:pic>
        <p:nvPicPr>
          <p:cNvPr id="492" name="Picture 8" descr=""/>
          <p:cNvPicPr/>
          <p:nvPr/>
        </p:nvPicPr>
        <p:blipFill>
          <a:blip r:embed="rId2"/>
          <a:stretch/>
        </p:blipFill>
        <p:spPr>
          <a:xfrm>
            <a:off x="1527120" y="3044880"/>
            <a:ext cx="8728200" cy="708120"/>
          </a:xfrm>
          <a:prstGeom prst="rect">
            <a:avLst/>
          </a:prstGeom>
          <a:ln w="0">
            <a:noFill/>
          </a:ln>
        </p:spPr>
      </p:pic>
      <p:sp>
        <p:nvSpPr>
          <p:cNvPr id="493" name="Rechteck 8"/>
          <p:cNvSpPr/>
          <p:nvPr/>
        </p:nvSpPr>
        <p:spPr>
          <a:xfrm>
            <a:off x="1457280" y="3890880"/>
            <a:ext cx="8678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Light"/>
              </a:rPr>
              <a:t>18.400 Betten, fast ein F</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nftel (17,9 %) der 102.800 Betten </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laut Feststellungsbescheiden (FSB)</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  sollen bis zum Jahr 2032 abgebaut werden –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13.6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Steigerung der Auslastung bei gleichzeitiger Verweildauerverk</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rzung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4.8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Leistungsverschiebung in den ambulanten Sektor (570.000 F</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lle j</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hrl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00000" y="542880"/>
            <a:ext cx="825804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a5c249"/>
                </a:solidFill>
                <a:latin typeface="Calibri"/>
              </a:rPr>
              <a:t> </a:t>
            </a:r>
            <a:br>
              <a:rPr sz="3200"/>
            </a:br>
            <a:r>
              <a:rPr b="1" lang="de-DE" sz="2800" spc="-1" strike="noStrike">
                <a:solidFill>
                  <a:srgbClr val="c00000"/>
                </a:solidFill>
                <a:latin typeface="Calibri"/>
              </a:rPr>
              <a:t>Ziel: Zentralisierung</a:t>
            </a:r>
            <a:br>
              <a:rPr sz="2800"/>
            </a:br>
            <a:r>
              <a:rPr b="0" lang="de-DE" sz="2800" spc="-1" strike="noStrike">
                <a:solidFill>
                  <a:srgbClr val="c00000"/>
                </a:solidFill>
                <a:latin typeface="Calibri"/>
              </a:rPr>
              <a:t>Beispiel: Herzinfarktversorgung</a:t>
            </a:r>
            <a:br>
              <a:rPr sz="2800"/>
            </a:br>
            <a:r>
              <a:rPr b="0" lang="de-DE" sz="2800" spc="-1" strike="noStrike">
                <a:solidFill>
                  <a:srgbClr val="c00000"/>
                </a:solidFill>
                <a:latin typeface="Calibri"/>
              </a:rPr>
              <a:t>Begründung: „Überversorgung“</a:t>
            </a:r>
            <a:br>
              <a:rPr sz="4000"/>
            </a:br>
            <a:endParaRPr b="0" lang="en-US" sz="2800" spc="-1" strike="noStrike">
              <a:solidFill>
                <a:srgbClr val="000000"/>
              </a:solidFill>
              <a:latin typeface="Calibri Light"/>
            </a:endParaRPr>
          </a:p>
        </p:txBody>
      </p:sp>
      <p:sp>
        <p:nvSpPr>
          <p:cNvPr id="495" name="Text Box 2"/>
          <p:cNvSpPr/>
          <p:nvPr/>
        </p:nvSpPr>
        <p:spPr>
          <a:xfrm>
            <a:off x="609480" y="1654200"/>
            <a:ext cx="10972800" cy="4670280"/>
          </a:xfrm>
          <a:prstGeom prst="rect">
            <a:avLst/>
          </a:prstGeom>
          <a:noFill/>
          <a:ln w="0">
            <a:noFill/>
          </a:ln>
        </p:spPr>
        <p:style>
          <a:lnRef idx="0"/>
          <a:fillRef idx="0"/>
          <a:effectRef idx="0"/>
          <a:fontRef idx="minor"/>
        </p:style>
        <p:txBody>
          <a:bodyPr lIns="90000" rIns="90000" tIns="45000" bIns="450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9BAB-EC4C-4719-9F09-2FFE88C9D86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498" name="Picture 6" descr=""/>
          <p:cNvPicPr/>
          <p:nvPr/>
        </p:nvPicPr>
        <p:blipFill>
          <a:blip r:embed="rId1"/>
          <a:stretch/>
        </p:blipFill>
        <p:spPr>
          <a:xfrm>
            <a:off x="1190520" y="1805040"/>
            <a:ext cx="9288720" cy="416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Arial"/>
                <a:ea typeface="Arial"/>
              </a:rPr>
              <a:t>Herzinfarkte in Köln:</a:t>
            </a:r>
            <a:br>
              <a:rPr sz="3600"/>
            </a:br>
            <a:r>
              <a:rPr b="0" lang="de-DE" sz="3600" spc="-1" strike="noStrike">
                <a:solidFill>
                  <a:srgbClr val="c00000"/>
                </a:solidFill>
                <a:latin typeface="Arial"/>
                <a:ea typeface="Arial"/>
              </a:rPr>
              <a:t>1.052 = 18 % Verlegungen</a:t>
            </a:r>
            <a:endParaRPr b="0" lang="en-US" sz="3600" spc="-1" strike="noStrike">
              <a:solidFill>
                <a:srgbClr val="000000"/>
              </a:solidFill>
              <a:latin typeface="Calibri Light"/>
            </a:endParaRPr>
          </a:p>
        </p:txBody>
      </p:sp>
      <p:sp>
        <p:nvSpPr>
          <p:cNvPr id="50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A483-2878-4341-AC70-92D2342E70F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502" name="Picture 6" descr=""/>
          <p:cNvPicPr/>
          <p:nvPr/>
        </p:nvPicPr>
        <p:blipFill>
          <a:blip r:embed="rId1"/>
          <a:stretch/>
        </p:blipFill>
        <p:spPr>
          <a:xfrm>
            <a:off x="2127240" y="1793880"/>
            <a:ext cx="7781760" cy="344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Kehrt in NRW der „planende Staat“ zurück?</a:t>
            </a:r>
            <a:endParaRPr b="0" lang="en-US" sz="3600" spc="-1" strike="noStrike">
              <a:solidFill>
                <a:srgbClr val="000000"/>
              </a:solidFill>
              <a:latin typeface="Calibri Light"/>
            </a:endParaRPr>
          </a:p>
        </p:txBody>
      </p:sp>
      <p:sp>
        <p:nvSpPr>
          <p:cNvPr id="50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eu: Fallzahlen und „Casemix“ (die Einnahmen) werden strikt reglementi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ambulante System wird aber auf den Patient*innenansturm nicht vorberei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Finanzierungssystem (DRGs + Investitionsfinanzierung) bleibt unveränd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Trägervielfalt“ (staatlich, freigemeinnützig, privat)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unternehmerische Freiheit“ (Art. 12 + 14 GG)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iterhin Existenzbedrohung durch Unterfinanzierung und Konkurrenzkampf</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0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4EE6-397D-4271-926D-0B441575D6E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1-06-04T11:14:43Z</dcterms:modified>
  <cp:revision>613</cp:revision>
  <dc:subject/>
  <dc:title>Krankenhaus statt Fabrik</dc:title>
</cp:coreProperties>
</file>